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5BE-19DB-4E52-8339-8E9C22B9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FD1-BC98-4774-BE43-D8E263B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2A0-EA26-4C8C-B781-D58B34F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343-0C33-4DD9-AFDF-229054E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7F1C-4085-4B7B-98AE-B853A7AD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63D-1871-49BB-BC1F-0274D17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E1A-3894-45B1-AA0D-8AB9F6F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22F-1B33-4865-848C-619EEC6F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318F-37A5-468B-ACB3-5323CF0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EBA-10C6-40CA-8302-2FEF1FD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F1AC-B36D-4BC5-94AC-193BF75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AD8-7787-415A-922E-3A788B08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590E-6356-48BC-B59C-87E714E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ACE-1DBB-48EC-8AA1-EFFEE49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F7E8-82E5-40F1-BB5A-910F4B4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DB0-0516-41A3-879C-AA5D1F09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2E6-33CA-4617-B7BB-39EC9375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5B0D-B65C-45EF-A8F7-01B45C58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DEEB-A0BF-421C-9848-9251C00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87FA-DEB7-409C-811F-34DE34F0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BF65-32F8-4D78-AF96-3DB4AC3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0DA3-F657-4DE5-B57A-FAD56AA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730-8B4B-4995-96FA-1D1D2247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F2D4-B245-4A33-9E90-BA6B84D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7DA4-073C-4AF1-A475-75AC704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CD51-8F8B-43D6-99A2-4EAD128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1D72-F2CC-4980-A87D-F69A7B3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C98A-A7D4-48A5-AE9D-F362ECA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9674-E3C9-4FFE-9BE1-6DFE68AF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BD91-B5B8-4BE3-86FF-3A6671EB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7322-578F-4FB1-A9D0-CEB8F878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A772-736D-49DE-A2B2-56A6CD32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AE53-ED6E-467A-B886-05B25A8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EA1-3AAC-48F6-862F-819D99A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20A0-E202-45EB-8FF0-72853A8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5CCE-4FD7-49DA-B8A9-BDE2C3B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D457-93B2-4BC6-9CF4-A4080F0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1205-1518-4CF4-B7AE-E7140E8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99DE-DD8C-4F74-9368-C9408828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E523-B04C-4E55-9E09-3ACF54B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B030-FE3F-4145-B434-EA463436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DF0C-137C-4D23-A909-364561E9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39B2-F3FF-4779-92FE-80E95E58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2C8-7106-4FAC-9BB6-57C05DDE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64F-A44F-4694-B70C-6CC86CD5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5D-C8B5-41CE-AA03-B422413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173-A5F4-4CA6-B7B7-66681BC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A12-D1AC-4F2F-8F4B-67078A6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BF4-B875-480F-91C3-DA2548F1CF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A6EA-75D6-47CF-8A26-6D87DA3C22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FD1D-C3B1-409C-B20E-9278F9EEFF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49D-9E80-4257-B8CC-C0EF5095C1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37960" y="1365120"/>
            <a:ext cx="860112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Julie Miezejeski, Liz Lynde, Caitlin Monahan, Marissa Tranti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feminism-2b.jpg"/>
          <p:cNvPicPr/>
          <p:nvPr/>
        </p:nvPicPr>
        <p:blipFill>
          <a:blip r:embed="rId2"/>
          <a:stretch/>
        </p:blipFill>
        <p:spPr>
          <a:xfrm>
            <a:off x="457200" y="3886200"/>
            <a:ext cx="2352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Questions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the gender of the author be determined simply through the text? (stylistic differences between a woman’s and a man’s writ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the text represent what it means to be a woma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the text seem to favor one gender over the ot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rner, James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leeping Persun of Better-Than-Average Attractiven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ry Criticis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1999. 15 Mar. 2009 &lt;www.literatureclassics.com/ancientpaths/litcrit.html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nsch, Robert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Paper Bag Princ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Canada: Annick P, 198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Femin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terary criticism displayed by feminist the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fore 1970- the first and second waves of feminism dealing with politics of women’s authorship and the representation of women’s condition within liter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Wave-more complex conceptions of gender- considering in terms of Freudian and Lacanian psycho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Goals of Feminist Critis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uncover and develop a female tradition of wr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terpret symbolism of women’s writing so it will not be ignored by a male point of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rediscover old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Feminist1.jpg"/>
          <p:cNvPicPr/>
          <p:nvPr/>
        </p:nvPicPr>
        <p:blipFill>
          <a:blip r:embed="rId1"/>
          <a:stretch/>
        </p:blipFill>
        <p:spPr>
          <a:xfrm>
            <a:off x="548640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Goal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analyze women writers and their writings in a female persp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oppose sexism in liter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crease awareness of sexual politics of language and sty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button.jpg"/>
          <p:cNvPicPr/>
          <p:nvPr/>
        </p:nvPicPr>
        <p:blipFill>
          <a:blip r:embed="rId1"/>
          <a:stretch/>
        </p:blipFill>
        <p:spPr>
          <a:xfrm>
            <a:off x="5715000" y="373392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Calibri"/>
              </a:rPr>
              <a:t>Advantages of Feminist Critic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have been somewhat underrepresented in the traditional cannon, and a feminist approach to literature redresses this proble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rarr.bmp"/>
          <p:cNvPicPr/>
          <p:nvPr/>
        </p:nvPicPr>
        <p:blipFill>
          <a:blip r:embed="rId1"/>
          <a:stretch/>
        </p:blipFill>
        <p:spPr>
          <a:xfrm>
            <a:off x="2590920" y="3886200"/>
            <a:ext cx="3809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Dis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minist turn literary criticism into a political battlefield and overlook the qualities of works they consider "patriarchal."   When arguing for a distinct feminine writing style, they tend to relegate women's literature to a ghetto status; this in turn prevents female literature from being naturally included in the literary cannon. The feminist approach is often too theoretic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b9899"/>
                </a:solidFill>
                <a:latin typeface="Calibri"/>
              </a:rPr>
              <a:t>Feminist Fairy T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gage in a debate about literary conventions and societal no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response to other tales by wom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rench fairy tales exemplify political and historical conditions in France beginning with those from the female perspec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ample: Mlle de La Force, Mme de Muart, Mlle Bernard- all patronized women in classical literature such as nurses or m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ry 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cerpt from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leeping Persun of Better-Than-Average Attractiv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p from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aper Bag Prin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he Great Person-Hole Cover Debate”-Van Gel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f Men Menstruated”-Stein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he Feminine Mystique”-Betty Fried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Content Placeholder 4" descr="book.jpg"/>
          <p:cNvPicPr/>
          <p:nvPr/>
        </p:nvPicPr>
        <p:blipFill>
          <a:blip r:embed="rId1"/>
          <a:stretch/>
        </p:blipFill>
        <p:spPr>
          <a:xfrm>
            <a:off x="5257800" y="1066680"/>
            <a:ext cx="1428840" cy="2038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Paper_Bag_Princess.gif"/>
          <p:cNvPicPr/>
          <p:nvPr/>
        </p:nvPicPr>
        <p:blipFill>
          <a:blip r:embed="rId2"/>
          <a:stretch/>
        </p:blipFill>
        <p:spPr>
          <a:xfrm>
            <a:off x="6629400" y="4267080"/>
            <a:ext cx="22096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ample Questions When Using Feminist Critic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men and women diff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their female heroines? If so, how do they differ from the male hero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the literature include the use of stereotypes as it relates to wome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the use of pronouns represent masculine ideology? (ex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place of he or sh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7:17:03Z</dcterms:created>
  <dc:creator>elynde</dc:creator>
  <dc:description/>
  <dc:language>en-US</dc:language>
  <cp:lastModifiedBy>Liz</cp:lastModifiedBy>
  <dcterms:modified xsi:type="dcterms:W3CDTF">2009-03-16T02:01:40Z</dcterms:modified>
  <cp:revision>14</cp:revision>
  <dc:subject/>
  <dc:title>Feminist Literary Criticism</dc:title>
</cp:coreProperties>
</file>